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D38-4C57-4782-9757-A8251CE3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654-E331-40F4-A0E6-69AC77F3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CDB-74DB-4371-9F9C-36936A64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FCF-CEB3-4898-8612-D2FD87C3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FCC1-946E-40DE-A0D3-1390C836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C29C-1D1E-4A77-B816-4A5B4966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3982-1D32-449B-B291-A7105C74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2AAF-6110-44A8-AD9E-038AF01B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83B9-50BF-4C48-B488-79F9D695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6BAE-1401-4524-9864-D7462F59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A22A-1457-4E08-A519-36933AF7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E96-2612-4A4E-AAD0-E9CC3D2D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D746-D5AB-40B9-B348-89FFA154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7257-E031-4A24-AA05-C4CEF1C8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0BD3-EDB6-406F-A998-9FE3060C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CF7C-684B-4938-96F1-8C30B182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0AA9-53F6-4A67-8E5E-B54F4E53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946-8E6A-490B-B183-203A506B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C75-D06F-47D5-BC5A-722E62CF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368-E933-4D8F-908C-3D9353A4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F60-D3AF-4F40-B4AB-CB678A43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A49-8D18-4321-9F32-13F1BB76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A8C-F3FE-47D8-88BC-6160A078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0EB-D67A-46D5-B0E9-9BE45ACD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C8F8-F91B-4A10-8B18-910FF3D69B3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A483-7AA9-45C0-9875-3BDAFEFFC35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video.nationalgeographic.com/video/player/environment/environment-natural-disasters/earthquakes/earthquake-101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1, Chapter 3, Activ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ear waves or secondary waves (s wav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 rock material at right angles to the direction of the w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travel only through solids (cannot travel through the center of the ea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er than p wave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difference in the arrival of these waves help us find the epicenter of the earthqua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lowest kinds of w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he surface where people ar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use the most da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ki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 up and down like ocean w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 side to si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tomy of a qua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arthquak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sudden motion or shaking in the Earth caused by the abrupt release of slowly accumulated st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national geographic earthquakes 1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ease look on p. G125. Describe how an earthquake occu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ult pla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fissure between two large pieces of earth where the pieces of earth are moving parallel to one an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ck video of computerized fault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earthquakes are for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ck masses on either side of a fault plane slip past one another in a parallel mo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ocks slowly and imperceptibly b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ually the rocks break because of built up be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dden release of energy as the rock breaks causes intense vib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ismic wav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general term for all elastic waves in the Earth, produced by earthquakes or generated artificially by explo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esy description of seismic w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ythbusters cement truck explo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fracture or fracture zone in rock, along which the rock masses have moved relative to one another parallel to the fra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caused by the movement of the earth’s pl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of the San Andres 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ear strength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shear force (movement parallel) needed to break a solid mate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the shear strength is reached, the rock breaks along the faul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lastic rebound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turn of a bent elastic solid to is original shape after the deforming force is remo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the rocks in a fault zone have already been ruptured o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on’t they just slip continuously? (know this!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some cases they 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iction due to pressure from deep in the earth presses the two sides 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erals from slowly moving water gets deposited and acts as cement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tores shear streng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point of an earthquake within th Earth where rupture first occurs to cause and earth quak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deep below the su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picenter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int on the Earth’s surface directly above the focus of an earthquak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ember to describe how the cracks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n cheesier description of wa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ult scarp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liff formed by a fault that reaches the Earth’s su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ressional or Primary waves (p wav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 is moved back and forth in the direction of the w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monstrate using the slink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ove through solids, liquids or gases; move more quickly in this descending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20:40:00Z</dcterms:created>
  <dc:creator>liebovichc</dc:creator>
  <dc:description/>
  <dc:language>en-US</dc:language>
  <cp:lastModifiedBy>Smyser, Cynthia Ann</cp:lastModifiedBy>
  <dcterms:modified xsi:type="dcterms:W3CDTF">2017-11-15T20:08:19Z</dcterms:modified>
  <cp:revision>7</cp:revision>
  <dc:subject/>
  <dc:title>An Earthquake in Your Community</dc:title>
</cp:coreProperties>
</file>